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D4A-1B61-4194-A0DB-0AB9718F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ll try to point out during my presentation how WW promotes componentisation and code re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 dispatcher to turn incoming web requests into an action which is dispa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87B-5B32-45A3-9B45-1415A47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245-105F-4D8C-BEF6-84090A5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AEF-29B5-4D3E-8A76-068A24A4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846-2416-4B2E-A35D-3D9FC15E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49C-FC1F-4167-AF9F-5256E56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04E-6240-4995-9A46-46B14CB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820-64CF-411C-84BC-68D0307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C8D-1A32-450D-8914-710377F5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752-72AD-4F40-9A66-E1079796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7B5-3F2E-4AF0-95AE-A818DEC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7CD-45CA-4362-B844-D66D7FD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A89-27A9-42CB-8711-B960EAE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164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B85-FBD0-4856-A73A-32096468C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mike@atlassian.com" TargetMode="External"/><Relationship Id="rId2" Type="http://schemas.openxmlformats.org/officeDocument/2006/relationships/hyperlink" Target="http://www.atlassian.com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gnl.org/" TargetMode="External"/><Relationship Id="rId2" Type="http://schemas.openxmlformats.org/officeDocument/2006/relationships/hyperlink" Target="http://www.ognl.org/" TargetMode="External"/><Relationship Id="rId3" Type="http://schemas.openxmlformats.org/officeDocument/2006/relationships/hyperlink" Target="http://www.ogn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opensymphony.com/" TargetMode="External"/><Relationship Id="rId2" Type="http://schemas.openxmlformats.org/officeDocument/2006/relationships/hyperlink" Target="http://wiki.opensymphony.com/" TargetMode="External"/><Relationship Id="rId3" Type="http://schemas.openxmlformats.org/officeDocument/2006/relationships/hyperlink" Target="mailto:mike@atlassian.com" TargetMode="External"/><Relationship Id="rId4" Type="http://schemas.openxmlformats.org/officeDocument/2006/relationships/hyperlink" Target="http://www.atlassian.com/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64a7d"/>
                </a:solidFill>
                <a:latin typeface="Impact"/>
              </a:rPr>
              <a:t>WEBWORK  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403776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tting  the  OpenSymphony  wa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91920" y="5761080"/>
            <a:ext cx="6103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Mike Cannon-Brookes - June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ike@atlassian.com</a:t>
            </a:r>
            <a:r>
              <a:rPr b="0" lang="en-US" sz="2400" spc="-1" strike="noStrike" u="sng">
                <a:solidFill>
                  <a:srgbClr val="164a7d"/>
                </a:solidFill>
                <a:uFillTx/>
                <a:latin typeface="Times New Roman"/>
              </a:rPr>
              <a:t>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tlassia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Pe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et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rivate long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long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getId()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etId(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long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d)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tring getName(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etName(String name)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AddPet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AddPet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implements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Action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rotected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et pet =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new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e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tring execute()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throws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Exception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(pet.getName() ==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ERROR;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stry.getPetStore().savePet(pe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UCCESS;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et getPet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et;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addpet.js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&lt;%@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taglib uri= 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webwork"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prefix= 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webwork"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%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head&gt;&lt;title&gt;Add A Pet&lt;/title&gt;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form action= "AddPet.actio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&lt;webwork:textfield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label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Name"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pet.name" 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put type= "submit" value= "Ad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xwork.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xwork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ackage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default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action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AddPet”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class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org.petsoar...AddPet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interceptor-ref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defaultStack"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sult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error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addpet.jsp&lt;/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sult 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8000"/>
                </a:solidFill>
                <a:latin typeface="Monaco"/>
              </a:rPr>
              <a:t>"success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success.jsp&lt;/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package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800" spc="-1" strike="noStrike">
                <a:solidFill>
                  <a:srgbClr val="000080"/>
                </a:solidFill>
                <a:latin typeface="Monaco"/>
              </a:rPr>
              <a:t>xwork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base class, provi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messag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nd field specific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errors are automatically supported by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is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resource bundle pe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vasive UI support for retriev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-Driven vs Field-Driv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ypes of Actions poss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has methods returning your model classes (myAction.getP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in the view are fields of y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s refer directly to your model (property=‘pet.nam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because it allows model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has fields of its own, which are fields in th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() collates fields and interacts with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s refer to action fields (property=‘nam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where form is not parallel to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 Com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traditional MVC actions contain duplication or deep class hierar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A single WW action can be composed of multiple smaller reusable be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Signup implements Ac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Nam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HomeInternationalCod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HomeAreaCod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HomeNumber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WorkInternationalCod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WorkAreaCod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WorkNumber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 Com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Signup implements Ac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Name(); [+ 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PhoneNumber getHom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PhoneNumber getWor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PhoneNumb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InternationalCode(); [+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AreaCode(); [+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getNumber(); [+sett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also reduce duplication in our views in the same way - using UI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 Disp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patcher configures and executes an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Work has ServletDispatcher and a FilterDispatcher for the servle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Work separates the implementation and invocation of an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Dispatcher allows actions created by a client to be executed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an action over RMI (ie in an ap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an action via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upported view technolo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per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you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ing tied to the web allows multiple pluggable ‘result type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e action chains, pooling, HTTP redirect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Work 2 &amp; XWork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 of Control (I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ts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ew Expression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pressions WW uses OGNL (Object Graph Naviga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ly compiled expressions - f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learn, powerful express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ised (so you can embed an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everywhere - views and *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ly run Open Source project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ogn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NL S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76520"/>
          <a:ext cx="7772400" cy="4852800"/>
        </p:xfrm>
        <a:graphic>
          <a:graphicData uri="http://schemas.openxmlformats.org/drawingml/2006/table">
            <a:tbl>
              <a:tblPr/>
              <a:tblGrid>
                <a:gridCol w="2895480"/>
                <a:gridCol w="487692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OGN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pet.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Pet().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pet.toString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Pet().toString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pet.categories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rst element of Categories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name in {null,”fred”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True if name is null or “fred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tegories.{nam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lls getName() on each Category in the collection, returning a new collection (proje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I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ful for componentization of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form components are buil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field, radio boxes, submit butt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nable using ‘theme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ts of templates to render sam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ble from any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P or Velocity 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I Component U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ui:textfield label="Username" name="usernam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ui:password label="Password" name="password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ui:component template="/mytemplate.vm"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ui:param name="param1" value="value1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/u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ui:submit value="'login'" align="right" /&gt;</a:t>
            </a:r>
            <a:r>
              <a:rPr b="0" lang="en-US" sz="2400" spc="-1" strike="noStrike">
                <a:solidFill>
                  <a:srgbClr val="666666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tag (TextField "label=Username" "name=usernam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tag (Password "label=Password" "name=passwor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bodytag (Component "template=/mytemplate.vm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param ("name=param1" "value=value1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#tag (Submit "value='login'" "align=right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 Rend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&lt;webwork:textfield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label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Name"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project.name" 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as follow (with added header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 components automatically present field error messages, added by validation framework or action itsel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7400" y="4800600"/>
            <a:ext cx="520704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19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 Rend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Velocity to actually render HTML fragments, eg in your JSP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Helvetica-Bold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&lt;webwork:textfield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label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Name"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project.name"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/&gt;</a:t>
            </a:r>
            <a:r>
              <a:rPr b="0" lang="en-US" sz="1600" spc="-1" strike="noStrike">
                <a:solidFill>
                  <a:srgbClr val="000080"/>
                </a:solidFill>
                <a:latin typeface="Helvetica-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rs via textfield.v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#parse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 "/decorators/xhtml/controlheader.vm"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input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type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text"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${tag.Name}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value=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"$!{tag.ActualValue}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#if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$tag.Size &gt; 0) </a:t>
            </a:r>
            <a:r>
              <a:rPr b="0" lang="en-US" sz="1600" spc="-1" strike="noStrike">
                <a:solidFill>
                  <a:srgbClr val="0000ff"/>
                </a:solidFill>
                <a:latin typeface="Monaco"/>
              </a:rPr>
              <a:t>size</a:t>
            </a:r>
            <a:r>
              <a:rPr b="0" lang="en-US" sz="1600" spc="-1" strike="noStrike">
                <a:solidFill>
                  <a:srgbClr val="008000"/>
                </a:solidFill>
                <a:latin typeface="Monaco"/>
              </a:rPr>
              <a:t>="${tag.Size}"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#end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#parse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 "/decorators/xhtml/controlfooter.vm"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stom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 allows you to easily create custom UI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writing a single Velocity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for componentizing views (with componentized or model-driven a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 date picker to allow users to enter dates into text fields easil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stom componen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638680" cy="554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313344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10280" y="2514600"/>
            <a:ext cx="1219320" cy="20574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392400 h 2057400"/>
              <a:gd name="textAreaBottom" fmla="*/ 1459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3172593"/>
                <a:lnTo>
                  <a:pt x="5991" y="21277"/>
                </a:lnTo>
                <a:lnTo>
                  <a:pt x="0" y="17958"/>
                </a:lnTo>
                <a:lnTo>
                  <a:pt x="5991" y="13993"/>
                </a:lnTo>
                <a:lnTo>
                  <a:pt x="5991" y="16153"/>
                </a:lnTo>
                <a:arcTo wR="21600" hR="8238" stAng="3172593" swAng="-2933201"/>
                <a:lnTo>
                  <a:pt x="21248" y="9720"/>
                </a:lnTo>
                <a:arcTo wR="21600" hR="8238" stAng="-239392" swAng="-5160608"/>
                <a:close/>
              </a:path>
              <a:path fill="darkenLess"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-239392"/>
                <a:lnTo>
                  <a:pt x="21248" y="9720"/>
                </a:lnTo>
                <a:arcTo wR="21600" hR="8238" stAng="-239392" swAng="-5160608"/>
                <a:close/>
              </a:path>
            </a:pathLst>
          </a:cu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the  form field and pop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stom componen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 (addpet.jsp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&lt;webwork:component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label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Created After"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templat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datepicker.vm"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pet.created"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&lt;webwork:param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'formname'"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valu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'editform'"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&lt;/webwork:component&gt;</a:t>
            </a:r>
            <a:r>
              <a:rPr b="1" lang="en-US" sz="1600" spc="-1" strike="noStrike">
                <a:solidFill>
                  <a:srgbClr val="000080"/>
                </a:solidFill>
                <a:latin typeface="Helvetica-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 template (datepicker.v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parse( "/decorators/xhtml/controlheader.vm"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cript language="JavaScript" src="/decorators/datepicker.js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put type="text" name="${tag.Name}" value="$!{tag.ActualValue}" 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 href="javascript:show_calendar('${tag.Params.get("formname")}', '${tag.Name }');"&gt;&lt;img src="/images/icons/cal.gif"&gt;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parse( "/decorators/xhtml/controlfooter.vm"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ep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ctical A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simple, no external depend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intercept action inv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couple and componentize your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ors are organized into ‘stack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 of interceptors applied in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any action or package of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Work is mostly implemented as a series of XWork intercepto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2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l-based’ MVC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componentization &amp;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of the command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generation of Web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ied to the we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in beta - but being well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ing Intercep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invocation interce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class TimerInterceptor implements Intercepto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ublic String intercept(ActionInvocation dispatcher)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...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ong startTime = System.currentTimeMillis();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String result = dispatcher.invoke();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ong exTime = System.currentTimeMillis() - startTime;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og.info(dispatcher.getProxy().getActionName() + " ran in " + exTime + "ms.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return result;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gging Intercep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fore/after processing interce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class LoggingInterceptor extends AbstractInterceptor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otected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before(ActionInvocation invocation)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... {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og.info("Starting execution stack for action " +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nvocation.getProxy().getActionName())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otected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after(ActionInvocation invocation, String result)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...{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og.info("Finishing execution stack for action " +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nvocation.getProxy().getActionName())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x Intercep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notifying users of events within our application via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an XWork interceptor + XML 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ce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s the config file (if not loaded 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epts th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ction class &amp; result to determine if any email needs to be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does, processes a Velocity template (email body) and send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x Interceptor -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EventNotifierInt extends AbstractIntercep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otected void after(ActionInvocation actionInvocation, String result) . . .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List listeners = getListenersFor(actionInvocation, resul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for (int i = 0; i &lt; listeners.size(); i++) {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ConfEventListener l = (ConfEventListener)listeners.get(i);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l.onEvent( result, actionInvocation.getAction() )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}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vate void loadXmlConfiguration(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vate List getListenersFor(ActionInvocation invocation, String result)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4448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action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upled from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s stored in XM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messages stored in actions, flow through to UI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ggable validato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implemented as an inter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ntrol when validation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ndled Valid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1776240"/>
          <a:ext cx="8001000" cy="4660920"/>
        </p:xfrm>
        <a:graphic>
          <a:graphicData uri="http://schemas.openxmlformats.org/drawingml/2006/table">
            <a:tbl>
              <a:tblPr/>
              <a:tblGrid>
                <a:gridCol w="2057400"/>
                <a:gridCol w="594360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 &amp;&amp; string.length() 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eger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emai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UR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xpression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ny OGNL expression evaluates to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g. pet.name != “do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llows you to create very powerful validations using just XML and your existing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user-validation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alidator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username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-validator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typ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requiredstring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messag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Please specify a username.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messag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-validato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confirm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-validator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typ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fieldexpression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aram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name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expression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confirm == null || password.equals(confi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ara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message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key=</a:t>
            </a:r>
            <a:r>
              <a:rPr b="0" lang="en-US" sz="1400" spc="-1" strike="noStrike">
                <a:solidFill>
                  <a:srgbClr val="008000"/>
                </a:solidFill>
                <a:latin typeface="Monaco"/>
              </a:rPr>
              <a:t>"passwords.dontmatch"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no i18n msg!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messag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-validato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alidator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or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that a String field is non-null and has a length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quiredStringValidator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extend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FieldValidatorSupport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validate(Action action)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throw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ValidationException {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tring fieldName = getFieldName()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bject value =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thi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.getFieldValue(fieldName, actio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(!(value </a:t>
            </a: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instanceof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String) ||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value == null ||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"".equals((String) value)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addFieldError(fieldName, action)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}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nversion of Contro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C removes the onus of managing components from your business logic into a contai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 manages lifecycles and dependencies between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B is IoC, but with a static list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, persistence an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karta Avalon project is all about I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vantages of I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simplicity and de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describe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ies are discovered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s to Law of De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coupled to only what they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smaller responsibility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better interface/impl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s become far sim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ecome ‘mini-contain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command patter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s represent a unit-of-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off from Webwork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ommand patte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55627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61" idx="3"/>
            <a:endCxn id="59" idx="1"/>
          </p:cNvCxnSpPr>
          <p:nvPr/>
        </p:nvCxnSpPr>
        <p:spPr>
          <a:xfrm>
            <a:off x="3061800" y="5181480"/>
            <a:ext cx="17247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3"/>
            <a:endCxn id="63" idx="1"/>
          </p:cNvCxnSpPr>
          <p:nvPr/>
        </p:nvCxnSpPr>
        <p:spPr>
          <a:xfrm flipV="1">
            <a:off x="3061800" y="4343040"/>
            <a:ext cx="172476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143000" y="46483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809880"/>
            <a:ext cx="1905120" cy="106704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5029200"/>
            <a:ext cx="457200" cy="380880"/>
          </a:xfrm>
          <a:prstGeom prst="upArrow">
            <a:avLst>
              <a:gd name="adj1" fmla="val 50000"/>
              <a:gd name="adj2" fmla="val 47083"/>
            </a:avLst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380988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5627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C in X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ff: IoC can be controversial - it is optional! Use it if it suits you :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Work and WW provide a web-native IoC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specify only which services they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interfaces (eg ShoppingCartA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 defines component implementations and sco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nent Sc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 has 4 component ‘scopes’ (life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Work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ook at an example with 2 servic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C Example Service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hoppingCart service - provides a user’s cart (session scop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ppingCartAware.ja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hoppingCartAwar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tShoppingCart(ShoppingCart car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ppingCart.ja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hoppingCar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addPet(Pet pe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movePet(Pet pe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boolean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sEmpt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iz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List getPet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C Example Service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etStore service - provides management of our pet inventory (application scop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tStoreAware.ja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StoreAwar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tPetStore(PetStore store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tStore.ja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Stor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avePet(Pet pe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movePet(Pet pe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List getPet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 getPet(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long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C Example -Being servic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AddToCart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implement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Action,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PetStoreAware, ShoppingCartAwar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setPetStore(PetStore ps) { this.petStore = ps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setShoppingCart(ShoppingCart c) { </a:t>
            </a:r>
            <a:r>
              <a:rPr b="1" lang="en-US" sz="1400" spc="-1" strike="noStrike">
                <a:solidFill>
                  <a:srgbClr val="000080"/>
                </a:solidFill>
                <a:latin typeface="Monaco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.cart = c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tring execute()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throws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ception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(cart ==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null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|| petId == </a:t>
            </a:r>
            <a:r>
              <a:rPr b="0" lang="en-US" sz="14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RRO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 pet = petStore.getPet(petId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cart.addPet(pet);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UCCESS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712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C Example - Confi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rvices are configured in components.xml like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scop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application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scop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org.petsoar.pets.DefaultPetStore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enable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org.petsoar.pets.PetStoreAware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enable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scop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session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scope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org.petsoar.cart.SimpleShoppingCart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enable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org.petsoar.cart.ShoppingCartAware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enabler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components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 Packa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age is a JAR contai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, views, interceptors, validators, i18n properties and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a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 capabilities from supe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componen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ckaging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work.xm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xwork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package name="defaul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package name="subpackage"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extends="default"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&lt;include file="myotherpackage.xml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&lt;/xwork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ts vs Web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arta Struts is the 500-lb gorilla of the MVC ‘spac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VC presentation complete without a Struts compar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ll try to be unbiased as possible :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apples-for-apples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it as a list of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P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r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writing ‘junk code’ to fulfill Struts’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actionbean/formbea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imple model-driven actions and your ow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nit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, call setters, run execu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‘plays well with oth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technologies well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 provid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command pattern framework for request / respons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or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ch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C componentiz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time attribute valid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-in type conversion using O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provide: anything to do with the web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P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r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express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pages with 1000’s of Struts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to make actions thread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ction instantiated p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not coupled to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nvoked remotely eg ClientDispatcher &amp; 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s has no interceptors, packages, IoC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C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s well supported as Str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ooks, tool support etc (changing slow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ction pooling 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tandards support (eg JSTL &amp; JS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F support might come when spec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TL can be done by us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Work not part of Jakarta 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nt Mo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opensymphony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website, mailing list, CV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iki.opensymphony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WW2/XW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blog - http://blogs.atlassian.com/rebelution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me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ike@atlassian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hapter of my upcoming book on real world development with Java OSS techn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hameless-plu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 for listening -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Cannon-Broo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Impact"/>
              </a:rPr>
              <a:t>ATLASS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atlassian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73528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72200" y="4038480"/>
            <a:ext cx="8380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5640" y="3961800"/>
            <a:ext cx="122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XDocle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,Web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Hiber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2 provides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d to HTTP request /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session / application 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let-based dispatcher to turn incoming requests into action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set properties of action based on request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integration (JSP, Velocity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terface / for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is a com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ction should be a ‘unit of work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should be simp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interface has only one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interface Ac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execute() 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throws 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Helvetica-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ook at small examp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Add P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946920" cy="421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74000" y="167544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- we want to add a Pet to our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Example: Add P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4a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ic example of an action, view and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.java (simple be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Pet.java (WW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pet.j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work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02:50:18Z</dcterms:created>
  <dc:creator>Mike Cannon-Brookes</dc:creator>
  <dc:description/>
  <dc:language>en-US</dc:language>
  <cp:lastModifiedBy>Mike Cannon-Brookes</cp:lastModifiedBy>
  <dcterms:modified xsi:type="dcterms:W3CDTF">2003-06-23T10:11:55Z</dcterms:modified>
  <cp:revision>100</cp:revision>
  <dc:subject/>
  <dc:title>WEBWORK  2</dc:title>
</cp:coreProperties>
</file>